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gif" ContentType="image/gif"/>
  <Override PartName="/ppt/media/image9.wmf" ContentType="image/x-wmf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A6D-52B6-4ECE-92D5-0E2ECF0E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6E8-FE98-4A16-B447-671F5E0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D0F-64CC-4407-872A-1AB35832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0C2-5AD3-4864-8801-138809B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FB0A-1C66-4759-8164-FBDE2215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DD6-DEFF-4C62-A587-B36D871F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5486-BDDE-45B7-B0A3-89D2DDA7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878-7EEC-47BB-AF38-7A967D3F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61A9-483B-469D-A672-1F8B8510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D16-4628-4CC2-8C86-93DB36C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DA3-CE87-4572-8E1F-1848779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8DF-0624-4C02-AF66-B1690BBA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F42E-7011-4D50-860C-EEB0BAA5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87A9-626D-47FB-90DC-33A67A10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84B-451A-47C5-9193-0FB499F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1AE8-47F4-4CA0-8DB3-925AED0E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83EE-A9B0-438F-BF3C-4547214E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CAE-C716-42FD-B3D0-47FB532D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D09-F07D-4BEE-9894-6A717B1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EF4-33DA-48A9-864A-AB3E8A7D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4C3-7230-4F2D-B39C-455D53E7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61B-13B0-4EEC-8C3B-666F5694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75B-9A54-4CC6-9A23-7BFE0E92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31D-4932-4F99-8533-21E06652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FEDF-F352-4EC0-89C9-7C2CE78A2A94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0A42-A961-42D7-877E-6F236ED3F05E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FF26-4735-4C7C-BADF-5F752E78BF53}" type="datetime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8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F720-94AF-4A91-9F8E-431F1CCAAE77}" type="slidenum">
              <a:rPr b="1" lang="zh-CN" sz="9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132" descr="xuexi10"/>
          <p:cNvPicPr/>
          <p:nvPr/>
        </p:nvPicPr>
        <p:blipFill>
          <a:blip r:embed="rId1"/>
          <a:stretch/>
        </p:blipFill>
        <p:spPr>
          <a:xfrm>
            <a:off x="3733920" y="3610080"/>
            <a:ext cx="3333600" cy="26384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5129"/>
          <p:cNvSpPr/>
          <p:nvPr/>
        </p:nvSpPr>
        <p:spPr>
          <a:xfrm>
            <a:off x="1752480" y="1905120"/>
            <a:ext cx="59436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30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riting an E-mail in English!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7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119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2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3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4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9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0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4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5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7" name="文本框 33897"/>
          <p:cNvSpPr/>
          <p:nvPr/>
        </p:nvSpPr>
        <p:spPr>
          <a:xfrm>
            <a:off x="685800" y="2927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想有自己的笔友吗？请你试着写一封电子邮件来介绍一下你自己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59399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hildren are what the mothers are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耳濡目染，言传身教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19" name="图片 59401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59403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Do you write e-mails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Who do you usually write e-mails t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hat do you write in your e-mail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7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44048"/>
          <p:cNvSpPr/>
          <p:nvPr/>
        </p:nvSpPr>
        <p:spPr>
          <a:xfrm>
            <a:off x="1523880" y="1752480"/>
            <a:ext cx="6629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want to know more friends? Please introduce yourself to others. You can talk about: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Your name;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Your family;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Your hobb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0" name="图片 44049" descr="20050615145355305"/>
          <p:cNvPicPr/>
          <p:nvPr/>
        </p:nvPicPr>
        <p:blipFill>
          <a:blip r:embed="rId1"/>
          <a:stretch/>
        </p:blipFill>
        <p:spPr>
          <a:xfrm>
            <a:off x="5538960" y="4341960"/>
            <a:ext cx="1358640" cy="20588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4050" descr="20050615145048329"/>
          <p:cNvPicPr/>
          <p:nvPr/>
        </p:nvPicPr>
        <p:blipFill>
          <a:blip r:embed="rId2"/>
          <a:stretch/>
        </p:blipFill>
        <p:spPr>
          <a:xfrm>
            <a:off x="7291440" y="4570560"/>
            <a:ext cx="1395360" cy="181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8136"/>
          <p:cNvSpPr/>
          <p:nvPr/>
        </p:nvSpPr>
        <p:spPr>
          <a:xfrm>
            <a:off x="1571040" y="1068480"/>
            <a:ext cx="59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ff"/>
                </a:solidFill>
                <a:latin typeface="Times New Roman"/>
              </a:rPr>
              <a:t>Read and remember the new words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矩形 48137"/>
          <p:cNvSpPr/>
          <p:nvPr/>
        </p:nvSpPr>
        <p:spPr>
          <a:xfrm>
            <a:off x="2758680" y="2133720"/>
            <a:ext cx="328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l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伙伴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介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essic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杰西卡（人名）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" name="图片 48138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064360" cy="12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51203" descr="1108688_180815147119_2"/>
          <p:cNvPicPr/>
          <p:nvPr/>
        </p:nvPicPr>
        <p:blipFill>
          <a:blip r:embed="rId1"/>
          <a:srcRect l="0" t="0" r="0" b="4081"/>
          <a:stretch/>
        </p:blipFill>
        <p:spPr>
          <a:xfrm>
            <a:off x="2209680" y="1219320"/>
            <a:ext cx="472464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51204"/>
          <p:cNvSpPr/>
          <p:nvPr/>
        </p:nvSpPr>
        <p:spPr>
          <a:xfrm>
            <a:off x="3414600" y="52228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odl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99" name="矩形 15372"/>
          <p:cNvSpPr/>
          <p:nvPr/>
        </p:nvSpPr>
        <p:spPr>
          <a:xfrm>
            <a:off x="990720" y="1523880"/>
            <a:ext cx="7543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8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t me introduce myself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让我来介绍我自已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.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介绍。常用于结构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roduce sb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把某人介绍给某人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often introduces her friends to her sist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常把她的朋友们介绍给她妹妹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50179"/>
          <p:cNvSpPr/>
          <p:nvPr/>
        </p:nvSpPr>
        <p:spPr>
          <a:xfrm>
            <a:off x="838080" y="1143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…I am trying to use some new wor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在努力用一些新单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文本框 50180"/>
          <p:cNvSpPr/>
          <p:nvPr/>
        </p:nvSpPr>
        <p:spPr>
          <a:xfrm>
            <a:off x="838080" y="241308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to do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努力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y doing sth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尝试做某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girl tries to study hard at Englis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女孩努力学习英语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ry helping him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能试着帮帮他吗？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2" name="Picture 2" descr="6_1105584051"/>
          <p:cNvPicPr/>
          <p:nvPr/>
        </p:nvPicPr>
        <p:blipFill>
          <a:blip r:embed="rId1"/>
          <a:srcRect l="81964" t="0" r="0" b="818"/>
          <a:stretch/>
        </p:blipFill>
        <p:spPr>
          <a:xfrm>
            <a:off x="7238880" y="1905120"/>
            <a:ext cx="1098720" cy="40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6385"/>
          <p:cNvSpPr/>
          <p:nvPr/>
        </p:nvSpPr>
        <p:spPr>
          <a:xfrm>
            <a:off x="76212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I’m looking forward to your repl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期待着你的回复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文本框 16386"/>
          <p:cNvSpPr/>
          <p:nvPr/>
        </p:nvSpPr>
        <p:spPr>
          <a:xfrm>
            <a:off x="1066680" y="1905120"/>
            <a:ext cx="731520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ok forward 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期待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为介词，后面要跟名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代词或动词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-ing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形式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作介词短语的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en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e used to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习惯于做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ay attention to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注意。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look forward to seeing him again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期望再次见到他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37893"/>
          <p:cNvSpPr/>
          <p:nvPr/>
        </p:nvSpPr>
        <p:spPr>
          <a:xfrm>
            <a:off x="1066680" y="144792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想认识更多的说英语的朋友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want to know _____ ________________ friend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吉姆正努力学开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Jim is _____ _____ _____ to driv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们都期待美好的未来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 all ______ _______ ______ good futur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文本框 37894"/>
          <p:cNvSpPr/>
          <p:nvPr/>
        </p:nvSpPr>
        <p:spPr>
          <a:xfrm>
            <a:off x="3581280" y="2666880"/>
            <a:ext cx="9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文本框 37899"/>
          <p:cNvSpPr/>
          <p:nvPr/>
        </p:nvSpPr>
        <p:spPr>
          <a:xfrm>
            <a:off x="2209680" y="3733920"/>
            <a:ext cx="11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y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文本框 37900"/>
          <p:cNvSpPr/>
          <p:nvPr/>
        </p:nvSpPr>
        <p:spPr>
          <a:xfrm>
            <a:off x="2533680" y="48769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ok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文本框 37901"/>
          <p:cNvSpPr/>
          <p:nvPr/>
        </p:nvSpPr>
        <p:spPr>
          <a:xfrm>
            <a:off x="3352680" y="4876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war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矩形 37907"/>
          <p:cNvSpPr/>
          <p:nvPr/>
        </p:nvSpPr>
        <p:spPr>
          <a:xfrm>
            <a:off x="3200400" y="3733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矩形 37908"/>
          <p:cNvSpPr/>
          <p:nvPr/>
        </p:nvSpPr>
        <p:spPr>
          <a:xfrm>
            <a:off x="4437000" y="26668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-speak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矩形 37913"/>
          <p:cNvSpPr/>
          <p:nvPr/>
        </p:nvSpPr>
        <p:spPr>
          <a:xfrm>
            <a:off x="3886200" y="3733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矩形 37914"/>
          <p:cNvSpPr/>
          <p:nvPr/>
        </p:nvSpPr>
        <p:spPr>
          <a:xfrm>
            <a:off x="4800600" y="487692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56:35Z</dcterms:created>
  <dc:creator/>
  <dc:description/>
  <dc:language>en-US</dc:language>
  <cp:lastModifiedBy>Administrator</cp:lastModifiedBy>
  <dcterms:modified xsi:type="dcterms:W3CDTF">2019-01-02T00:57:4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